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CFB-29F5-43AD-A556-2CFA4B9D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323-A79A-4610-985E-F49FFD90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F7F-108D-432B-B559-37CD485F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0F5-E211-4D2C-B695-489A5CB7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6952-A516-4C1F-A30B-95D1D797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83EE-756C-4BDD-A302-D4090321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B69E-3193-4779-B0BD-4E3345B9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822D-28DA-4182-BA8B-D2F1E263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550F-4C5B-461A-A63B-C1FBFB54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AFA8-46DE-4CD0-8417-5D99FC4A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4509-7F9D-4C7C-81F4-9CB7254C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E55-C842-4BB6-B5A6-8CB80206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4BFA-4119-41F3-88D3-3F0E0C05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6014-8A44-4AD1-8F61-4FD20D1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F6B7-C7CE-46AB-B039-882342CB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08A0-4EDE-4C5C-944F-61573187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B8A3-CCF4-4D97-B7B9-3B777B19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7B16-534B-46BA-A865-90D42747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C52ED-F7D1-4CA4-8D76-EEFE781F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380D-C871-4FF2-94DC-A1108FAC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6A7E-1F7A-4E52-AFF4-F718D00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17F8-2FCA-4ECB-B244-448D6555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497-8EF3-4A2E-A838-C4110685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C200D-D06F-458D-903F-57806318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9CA8-B5F5-4FF1-B0BC-6A6C3E4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13D5-C2BB-4BE4-A9D4-8A1BB565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E972-F7FD-4D8C-AF79-9DC91002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C1B7-772A-4223-A02C-8A38B0E2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B915-33D7-4466-86B1-A7D00045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0D7B-67C7-40B2-B776-A599587F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21604-4844-4A9C-9D87-AB31C02C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5BC1-F0DD-46F0-93A3-98F3297F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82DA0-3F2D-4A61-B9B4-69574DB8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577-F686-4F00-917A-21EFB25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A8973-C0C6-4986-9637-A12EFD8F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8CA2-3A8D-4BCC-B6BD-776862E8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05B0-C195-4A5F-ACF3-B738B958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4CB40-EA4D-44E2-B140-224BFD59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2F7D-2C89-4095-AC52-DA126E27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96FD-10DC-4C4B-9750-EBFDC28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229DF-C27B-4876-AAE6-13879492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9313-55C6-451C-869A-B0AA5C76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16788-02B4-4744-90C5-26E93FE2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48D-AD5A-481D-975F-C7361155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B89-1E80-452B-8C77-6B7FD2D0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ACE-77C9-43EB-9A9F-0590A60A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B78-F209-4BA0-8127-28E03E7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317-C69D-4949-9A50-A6AB12D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A794-4C4F-421E-8786-31D77BDB30A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3650-DE96-420C-A06F-CA28E540D03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6BD-4C13-4569-AEF5-245C1A1BAF6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68E4-C408-4BB7-962B-7A9D3812E3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Review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loo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arget in object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program to accept a list of numbers. Do a for loop to check whether each number in the list is positive, negative, or z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program with check([-4,7,0,-1,9]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828800" y="12193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check(lis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Positiv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f (x&lt;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Negativ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Zero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program to count the number of even numbers in the l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 check(list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x in l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=count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"No. of positive numbers is ", 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thematical  ope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x= 7, y =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+ y =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-y = 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*y = 1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/ y = 3  (because both of them are integ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7.0 / 2.0 =  7 / 2.0 = 7.0 / 2 = 3.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% y = 1 (the reminder of the divis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d oper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in the reminder of the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2= 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%2 =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% 3 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% 3 =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3 =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now if y is divisible by x, check if  y % x 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even if x % 2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odd if  x% 2 =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2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z+ x  =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+= x =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z+x   is the same as   z+=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meters pas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myFunc(name, ID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name, 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u execute myFunc in the black wind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Func(“John”, 2637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List(myList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in myLis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51640" indent="-203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execute printList in the black wind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List([1,2,3]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List([7]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now the length of a list, use command len(myLis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List(myList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You passed”, len(myList), “ parameter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in myLis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else cond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est1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f test2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3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: after the 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qual test, you must use “== “e.g. if x==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condition after e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2251-9AEF-44FC-ABCD-B1D4B776AAD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a number x as a parameter and checks if this number if positive, negative, or z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before looking to ans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523880" y="121932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 check(x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Positi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f (x&lt;0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Negati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Zer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3-23T22:19:24Z</dcterms:modified>
  <cp:revision>234</cp:revision>
  <dc:subject/>
  <dc:title>CPSC 203</dc:title>
</cp:coreProperties>
</file>